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15C-1CFC-42C3-A990-A5F6B05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507-15B6-44F5-855C-18486ACE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5E0-2CAE-4C61-9031-1EEBA670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C9B-9CF2-489C-A725-B6BAFCD0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0A7C-CE28-462E-A18D-845BEEB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07C-E75B-4775-A666-11B9F084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F6D-DA63-478E-8B96-597ED935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B99-29BC-48B0-BF9B-45785DD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EC0-4F40-4DDB-BA8E-3F0FC482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0F0-9714-4C41-9828-6467E9B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3CA-48D1-48BE-AD9A-440A23E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E30-0C10-47E2-A13C-152A08D6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73E-0404-4390-A0BA-48AEE32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3A7-5CBF-40DF-9133-4BF5624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588C-822C-4DD1-A8C2-EF94B7A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9BC-AA7C-4568-AF03-43B65DB5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7166-9C86-43D8-8F16-8133B5F7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6FE-8677-4661-9794-1E1FEA05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ABB-284C-4272-A895-65E36AC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EDA-4541-4508-AFFC-8451491E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1AE-1054-4D0A-B794-C76A8F5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CD5-766B-4430-A6B0-BC09BB0A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AAF-5E92-4B42-92F6-8A4F0EED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471-60B4-44A6-91B9-AC4024F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C909-FFA4-4F91-B269-138BC96F78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B96E-8965-4CE7-A878-27CB00F478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Mansión por: Abby Bennet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62485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Gara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. Es pe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y mode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150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 Mans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ansion. Es muy grande y bon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54104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oderna, bella, y fabulo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18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Es muy grande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0440" y="1980720"/>
            <a:ext cx="80769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bonita, estupenda, y nue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1722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. Es muy impresionante y nuev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uy grande y be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838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. Es muy grande, bello, y ma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0199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. Es nuevo, bonito, ma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o,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41Z</dcterms:created>
  <dc:creator>bennettabb</dc:creator>
  <dc:description/>
  <dc:language>en-US</dc:language>
  <cp:lastModifiedBy>bennettabb</cp:lastModifiedBy>
  <dcterms:modified xsi:type="dcterms:W3CDTF">2013-04-02T12:22:47Z</dcterms:modified>
  <cp:revision>4</cp:revision>
  <dc:subject/>
  <dc:title>La Mansión</dc:title>
</cp:coreProperties>
</file>